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E2E-C0CE-48EB-8DA2-5F03E3AE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BE74-F0F6-4190-8B18-7F5DDDBA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CA21-2186-48A8-84F0-C9B0A078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264B-C497-4361-A235-835DDC70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7962-A976-425D-BC18-96B662B8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95E-697C-436B-B8EB-6C5DDA47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011-BBC4-4CCC-BB0C-9F1652DD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5F0-063B-44CA-9226-DB0592F5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60D4-FBC8-47CE-9C6B-A3E38356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C72-5228-4646-A6D5-0810D09E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4ECD-9EB1-448E-8030-8FDDD439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C8D-EF6E-453A-B5E7-4A8CAE47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31A-FACF-4E37-892A-095481A7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33C-FD39-465C-8123-27D5D17B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373-9C60-487C-B5B8-CE7FB56D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260-2A05-4A33-AA8E-3D4AA547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1A7D-6C58-4E8F-99BE-A1BD625F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5C5-A351-416A-972A-F79DD3292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56E7-4790-4836-AA3A-2391A9FF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556A-31B3-47EA-89F2-37124A1F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8B90-DAC6-4309-B368-13D24779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CA6A-1A43-4A20-ABC3-898B7B09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25F-87EA-4F0A-A0A0-C0EF9AD2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619A-C56A-42CB-A2FF-5C3735CD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F8E-377E-4C38-8544-CBEC08B2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0A7-4320-4B20-9160-42A2FC95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4C3-39DA-475B-A950-1F9F475E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1D0-4FBC-4CA4-B55E-BC9D91C2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921-B644-431B-943A-181D9460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3544-875D-4A8A-B50D-EF058372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5D5-9A66-4AF8-9934-20553B85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A4E-5EED-4E54-AFA1-949E833D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B04-2F2A-4FFE-B23D-9DDB9E17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6055-A4B2-48EE-A0CB-A80AD43F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9DB2-5469-4CD9-9582-6E95665A6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C5E9-E411-46C3-A4B8-2FCC86E4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346-1D05-4B30-BEA5-6FEF8A43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6747-A3F2-4D60-B43D-190A1F10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D67-2D27-4047-B8AE-E52500D7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5D0F-0390-43DC-BA2B-0566AE26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D55-DC56-40DB-AFF9-D6502A380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C81-F9A3-4B81-B39F-345B963A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83B-6D11-4FA5-ADF4-DE9FD46E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F1A-F097-4BAC-961A-BC2B3AC7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5DD-2919-44CA-9009-783A4DC8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7D0A-C2AF-456E-B060-645DF7EB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9E1-38DD-48C1-BB23-F9BDE929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6CB8-FF86-4EDA-8F5A-E8928924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4F00-BA16-43C7-BC4C-5F775F9E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E29-C245-461F-96AE-FD6BB11F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EA3-03F4-4958-B123-0769023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43B-79D9-4DAF-8A55-1F19C7D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011-A6EA-4B9F-BF3A-7D6431BA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19B-DCC3-477D-A4FA-8B1CE552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607-73D7-43C9-A5E7-6146AB2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92F-6B62-4E67-8D76-7D37FEA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414-9660-45F0-A01C-F7A8E933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3AD-4721-41B3-920A-FCC2BE05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4DE-5732-416D-9886-2D35B8D0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CEC-C11E-4782-A982-9441AE6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715-ED27-41E6-8406-794BEB23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559-B43F-4C7C-81A9-B8C4C10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C24-CB20-44EE-8CDE-641D1C78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4C1-4BDA-4A28-BAAA-599C1856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0A4-E3FD-4B48-B56A-EAF25BA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7F3-FBC6-4078-AC31-77AA3D91FF5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F301-70AD-4D66-8858-5F76AE4A9E7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1041480" y="463680"/>
            <a:ext cx="6926040" cy="2626920"/>
            <a:chOff x="1041480" y="463680"/>
            <a:chExt cx="6926040" cy="2626920"/>
          </a:xfrm>
        </p:grpSpPr>
        <p:sp>
          <p:nvSpPr>
            <p:cNvPr id="90" name="Text Box 4"/>
            <p:cNvSpPr/>
            <p:nvPr/>
          </p:nvSpPr>
          <p:spPr>
            <a:xfrm>
              <a:off x="2424240" y="2887920"/>
              <a:ext cx="46879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362480" y="463680"/>
              <a:ext cx="1839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041480" y="677880"/>
              <a:ext cx="692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Souvenir Lt BT"/>
                </a:rPr>
                <a:t>ПОРЕМЕЋАЈИ ЛИЧНОСТИ И ОСТАЛИ НЕПСИХОТИЧНИ ПОРЕМЕЋАЈ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2146320" y="3546360"/>
            <a:ext cx="109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859120" y="4427640"/>
            <a:ext cx="53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др Владимир Јањ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142920" y="2298600"/>
            <a:ext cx="88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54200" y="1536840"/>
            <a:ext cx="799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јчешћи узроци несанице се могу разврстати у четири катего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Егзогени, преципитирајући фактори или око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Телес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Ментал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Специфични поремећаји 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81040" y="797040"/>
            <a:ext cx="7894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зогени, преципитирајући фактори или животне окол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ут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Интерконтинентални лет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ивотне прилике оптерећене стр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оћни рад (промена циркадијалног рит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Хоспит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моционално узбу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повољно окружење за 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281160" y="1398600"/>
            <a:ext cx="93204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сне болести и ст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уролошке болести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ремећаји кретања, неуромишићне болести,   главобоља, неуропатије, малигнитети, траума, епилепсија, ЦВБ, делириј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еуматска обољења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фибромиалгија, системске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рдиоваскуларне болести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коронарна болест, инсуфицијен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олести респираторног систем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стма, ХОБ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Гастроинтестинални поремећаји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ептички улкус, рефлукс, хепатичка инсуфицијен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олести бубрег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убрежна инсуфицијен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Ендокрина обољења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дијабетес мелитус, болести тироиде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изиолошка стањ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рудноћа, перименопауза и менопау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4520" y="2127240"/>
            <a:ext cx="778176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Ментални поремећај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Депрес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Анксиозни поремећа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Биполарни поремећа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Психотични поремећај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Злоупотреба супстанц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99960" y="2013120"/>
            <a:ext cx="77821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Специфични поремећаји сна</a:t>
            </a:r>
            <a:r>
              <a:rPr b="1" lang="pt-BR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индром немирних ногу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оремећаји који доводе до периодичних покрета екстремитета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индром опструктивне апнеје у сну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иквиков синдром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14200" y="1670040"/>
            <a:ext cx="841068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ЕРАПИЈА НЕСАН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ce157"/>
                </a:solidFill>
                <a:latin typeface="Times New Roman"/>
              </a:rPr>
              <a:t>--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Терапија акутне несанице зависи од њених узрока, тежине и клиничког тока. Лечење акутне несанице заснива се на примени једноставних мера хигијене спавања, уз краткотрајну употребу хипноти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- Лечење хроничне несанице је много већи терапијс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зазов, због тока, тежине и могућности учешћа већег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роја етиолошких чинилац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У принципу, фармакотерапија  и мере хигијен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спавања чине основу терапијског програм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85680" y="1384200"/>
            <a:ext cx="88963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ере хигијене спавањ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невно-ноћни рита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стајати увек у исто време и не спавати преко дана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итуали -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опли напитак, туширање, читањ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паваћа соб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иха, пријатна за спавање, проветре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имуланси 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лкохол, напици на бази метилксантина (нпр. кафа, кола) и цигарете треба избегавати  4-6 сати пре спавањ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зичка активности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оком дана и у касно поподне је веома пожељна, али не на неколико сати пре спавањ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хран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ак оброк после 18 са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1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-185760" y="1270080"/>
            <a:ext cx="90010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Програм регистрације, консолидације сна и  контроле стимулус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18960" y="2192400"/>
            <a:ext cx="860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кревет одлазити само кад постоји поспа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атити време проведено у кревету (стимулативно за спавањ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кревету не проводити више од 15 минута у будном стању, било на почетку сна или у случају накнадног буђе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спроводити важне активности пред спавање (нпр. сређивање кућних финансија) пошто оне подсвесно подстичу буд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ремати (изузетак су стари - дозвољен краћи поподневни одмо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ти из кревета у задато време без обзира на остварени с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истити лекове (хипнотике) како је прописа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РЕМЕЋАЈ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1655640"/>
            <a:ext cx="8405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емећаји личност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 дубоко укорењени маладаптивни обрасци понашања који се испољавају сметњама у интерперсоналној сфери и односу према сопственој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су психичка стања која се налазе између нормалног и патолошког и обично се обраћају психијатру само у фази декомпензације.Њих карактерише извитоперен и дисхармоничан несклад вољно-нагонског и афективног живота и понашања са једне стране  и интерперсоналних релација и захтева средине, с друге ст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4680" y="269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СПА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165564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ноид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рактерист ик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57280" y="2813040"/>
            <a:ext cx="661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терана осетљивост на одбацивање Незаборављање увреда                        Сумњича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вер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днденција да се доживљај погрешно тумачи наглашено самоуваж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165564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хизоид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арактеристике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43040" y="2712960"/>
            <a:ext cx="661968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Усамљеначки начин живот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Емоционална хладноћа и зарањен афективитет      Склоност ка интроспекицији и маштању  Равнодушност                                      Непотребна опрезност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бичнос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и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јаж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ч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148428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социјални поремећај личнос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опат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885960" y="2313000"/>
            <a:ext cx="661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коб са Законом                                 полиморфне сексуалне перверзије   злоупотреба алкохола и дрога       неспособност одлагања задовољства неспособност толеранције фрустрација слабност модификовања понашања после казне                                                    недостатак блиских пријатеља            Одсуство анксиозности и осећања кривице дефектно морално расуђивање    Окривљавање других за своје понаш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148428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стрионич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914400" y="2441520"/>
            <a:ext cx="66200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итке површне емоције                            афективна лабилност                   самодраматизација                                театралност                                                скретање пажње на себе                           склоност ка флертовању                          еротизација контаката                              позерство                                          сугестибилност                                            склоност ка пренаглашавању и маш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85680" y="1370160"/>
            <a:ext cx="8406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нкастич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112760" y="2359080"/>
            <a:ext cx="66200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ни                                                   скрупулозни                                         максимално педантни                              перфекционисти                                                 савесни                                                          тврдице                                                         опрезни                                                 неспособни за компромисе                            форсирају своја правила                             усмерени ка послу                                              не уживају у жив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85680" y="1598760"/>
            <a:ext cx="8406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бегавајућ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185840" y="2641680"/>
            <a:ext cx="662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шљивост                                                 осећање несигурности и инфериорности              мало блиских пријатеља                                    жеља да буде прихваћен                    преосетљивост на одбацивање                     редукција социјалних контаката              рестриктиван животни стил                                 стално обезбеђивање сигурности                      страх од кри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00160" y="139860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ис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300320" y="2355840"/>
            <a:ext cx="66196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исност од других особа              ниподаштавање сопствених потреба безпоговорна сагласност са другима            доживљај беспомоћности и некомпетентности страх од напуштања                           субмисивност                                       неодлучност                                                    страх од самоће                                         песимизам                                                      сумња 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99880" y="1498680"/>
            <a:ext cx="8406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рцистич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рактерист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471680" y="2612880"/>
            <a:ext cx="6619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ћано осећање самоуважавања пренаглашеност вредности сопствене личности преокупације о неограниченом успеху преокупације о супериорности, лепоти и моћи стална потрага за пажњом и похвалама                       не подноси критику и пораз                         недостатак емпатије                                 арогантно понашање                           интерперсоналне смет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ЛИЧ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99880" y="1270080"/>
            <a:ext cx="84060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моционално нестабилни поремећа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Карактеристик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442880" y="2112840"/>
            <a:ext cx="662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Емоционална нестабилност          Имплузивност промене расположењ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едостатак самоконтро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07960" y="3208320"/>
            <a:ext cx="834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е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улзивни ти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ема добри контролу беса, напраситост, плаховитост, раздражљивост, неувиђавност, брза промена располож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чни тип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ективна нестабилност, нестабилност идентитета, осећање празнине, смањена толеранција на самоћу, иритаб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rcRect l="1943" t="12316" r="22779" b="1273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4f81bd"/>
                </a:solidFill>
                <a:latin typeface="Souvenir Lt BT"/>
              </a:rPr>
              <a:t>POREMEĆAJI LIČNOSTI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4480" y="151272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f81bd"/>
                </a:solidFill>
                <a:latin typeface="Times New Roman"/>
              </a:rPr>
              <a:t>Emocionalno nestabilni poremećaj ličnosti (Granični t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Karakteris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743200" y="6504120"/>
            <a:ext cx="38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4f81bd"/>
                </a:solidFill>
                <a:latin typeface="Times New Roman"/>
              </a:rPr>
              <a:t>              </a:t>
            </a:r>
            <a:r>
              <a:rPr b="1" lang="sr-Latn-CS" sz="1600" spc="-1" strike="noStrike">
                <a:solidFill>
                  <a:srgbClr val="4f81bd"/>
                </a:solidFill>
                <a:latin typeface="Times New Roman"/>
              </a:rPr>
              <a:t>Prof. dr Dragan Ravani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despair"/>
          <p:cNvPicPr/>
          <p:nvPr/>
        </p:nvPicPr>
        <p:blipFill>
          <a:blip r:embed="rId2"/>
          <a:stretch/>
        </p:blipFill>
        <p:spPr>
          <a:xfrm>
            <a:off x="7988400" y="5749920"/>
            <a:ext cx="992160" cy="992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1285920" y="2513160"/>
            <a:ext cx="661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nestabilnost raspoloženja                             smetnje interpersonalnih odnosa i ponašanja smetnje identiteta                                     poremećaj mišljenja                                nepredvidivo i impulzivno ponašanje         sklonost ka samopovređivanju                 osećanje praznine i dosade                             teško podnose samoću                                 moguća psihotična dekompenz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DSCN0703_0"/>
          <p:cNvPicPr/>
          <p:nvPr/>
        </p:nvPicPr>
        <p:blipFill>
          <a:blip r:embed="rId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68580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ПОРЕМЕЋАЈ СЕКСУАЛ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r>
              <a:rPr b="1" lang="sr-Latn-CS" sz="1300" spc="-1" strike="noStrike">
                <a:solidFill>
                  <a:srgbClr val="9ce157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1655640"/>
            <a:ext cx="8405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ава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 периодични и привремени прекид будности у коме је моторна инактивација скоро потпуна а свест о спољној средини максимално редук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и је део целовитог циркадијалног ритма будности и спавања које траје око 24,5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 СЕКСУАЛНОСТИ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28760" y="151272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сексуа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асифика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285920" y="2784600"/>
            <a:ext cx="6619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сексуалне дис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полног идент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фи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 СЕКСУАЛНОС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28760" y="1512720"/>
            <a:ext cx="8405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сексуалне дис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285920" y="2855880"/>
            <a:ext cx="6619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сексуалне ж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сексуалног узбу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орг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СИХОСЕКСУАЛНЕ ДИСФУНКЦИЈЕ                                            ПОРЕМЕЋАЈ СЕКСУАЛНОС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8760" y="1584360"/>
            <a:ext cx="8405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ремећаји сексуалне же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85760" y="2127240"/>
            <a:ext cx="86518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довољност или губитак сексуалне жеље              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вратност према полном уживању и одсуство полног уживања                                                                         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јачана сексуална же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инфоманиј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атириј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23720" y="3836880"/>
            <a:ext cx="8406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ремећаји сексуалног узбуђењ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81080" y="4394160"/>
            <a:ext cx="8651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Фигидност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хибовано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ексуално узбуђење код ж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мпотенциј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суство ерекције код мушкара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СИХОСЕКСУАЛНЕ ДИСФУНКЦИЈЕ                                             ПОРЕМЕЋАЈ СЕКСУАЛНОС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42800" y="1584360"/>
            <a:ext cx="8406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ремећаји оргазм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95200" y="2336760"/>
            <a:ext cx="865188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хибовани оргазам код жена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ибовани оргазам код мушкараца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времена ејакулација код мушкараца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испареун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нитални бол за време коитуса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гинализа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довољни спазми мускулатуре спољне трећине ваг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 СЕКСУАЛНОС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28560" y="1584360"/>
            <a:ext cx="8406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полног идент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028880" y="2612880"/>
            <a:ext cx="66196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секуализа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ексу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мосексу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теросексу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вест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 СЕКСУАЛНОС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57280" y="1541520"/>
            <a:ext cx="840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и полне склоност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ФИ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14280" y="2141640"/>
            <a:ext cx="66200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офи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офи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хибицио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ајер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тиш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домазох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уте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отер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рофи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профи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6000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5680" y="232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ИСХР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ОРЕКСИЈА НЕРВ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орексија је поремећај који карактерише намерни губитак тежине, изазван и подржаван од пацијента. Дубоко је поремећена телесна схема, а жеља да се изгуби на тежини достиже карактер приси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шће се дијагностикује у последнјих неколико декада. 4% адолесцената има неки поремећај исхране. 10 до 20 пута је поремећај чешћи код девојч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тиолог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иолошки 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сихолошки и психодинамски 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јални 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918480" y="209520"/>
            <a:ext cx="2225520" cy="785880"/>
          </a:xfrm>
          <a:prstGeom prst="rect">
            <a:avLst/>
          </a:prstGeom>
          <a:ln w="0">
            <a:noFill/>
          </a:ln>
        </p:spPr>
      </p:pic>
    </p:spTree>
  </p:cSld>
  <p:transition advTm="47000"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4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нтална анорексија- клинички критерију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Губитак на телесној тежини или немогућност постизања и/или одржавања очекиване телесне тежине у односу на узраст и телесну висину- 15% губитка од очекиване телесне тежине је знак који алр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Интензиван страх од од добијања на тежини или дебљања, чак и када су видно испод жељене тежи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оремећај у перцепцији свога тела- неподударност представе о себи и реалног доживљај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Аменореја у постменархалном периоду (изостанак три консекутивна циклус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одтипа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рестриктивни тип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тип са кризама узимања превелике количине хране/ коришћење пурга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918840" y="2570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РЕМЕЋАЈИ ИСХ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ЛИМИЈА НЕРВ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2800" y="142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емећај који се карактерише поновљеним кризама претераног узимања хране и заокупљеношћу контролом телесне тежине. У кризма узимања превеликих количина хране у кратком временском интервалу је праћено осећајем губитка контроле. Томе се придружује накнадно намерно изазивање повраћање или употреба лаксатива или диуретика, претерано вежбање и изгалдњивање, са циљем смањења телесне теж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лимија је чешћи поремећај од анорексије са преваленцијом од 1 до3% у популацији младих ж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8880" y="31428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РЕМЕЋАЈИ ИСХ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-131760" y="1413000"/>
            <a:ext cx="934704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оремећаји спавањ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арни поремећаји спавања (несаница, нарколепсија, хиперсомнија, Клеине-Левинов синдром, Пиквиков синдром, апнеја у спавањ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кундарни поремећаји спавања (поремећаји спавања код схизофрених болесника, код депресије и маније, болести зависности, код разних неуролошких и соматских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сомније (месечарство, говор у спавању, енуресис ноктурна, бруxисмус, љуљање главе или тела, поремећај понашања у РЕМ-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емећаји изазвани или модификовани спавањем (обољења која се погоршавају током спав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42800" y="9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лимија- клинички критерију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Рекурентне епизоде прекомерног узимања хране (узимање огромних количина хране за кратак период времена са осећајем да се овакво понашање не може контролисати или зауставит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Рекурентно компензаторно понашње којим се покушава спречити добијање на теж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амопроцена (самовредновање) је превасходно засновано на облику и тежини т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одтипа булимије 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а изазивањем повраћања, злоупотребом лаксатива и диуре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без изазивања повраћања, злоупотребе лаксатива и диуре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211800" y="449280"/>
            <a:ext cx="29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РЕМЕЋАЈИ ИСХ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ouvenir Lt BT"/>
              </a:rPr>
              <a:t>ПРИМАРНИ-ДИСОМНИЈЕ</a:t>
            </a:r>
            <a:r>
              <a:rPr b="1" lang="en-US" sz="1800" spc="-1" strike="noStrike">
                <a:solidFill>
                  <a:srgbClr val="ff3300"/>
                </a:solidFill>
                <a:latin typeface="Souvenir Lt BT"/>
              </a:rPr>
              <a:t>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-189000" y="1170000"/>
            <a:ext cx="93474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9ce157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25400" y="1204920"/>
            <a:ext cx="7969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рколепсија –</a:t>
            </a: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рактерише се понављаним епизодама принудног спавања на које особа не може да утич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иперсомнија –</a:t>
            </a: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финише се као стање изразите дневне поспаности и епизода спавања или продужене поспаности након буђења које се јавља свакодневно више од месец да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леине-Левинов синдром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разумева периодичну хиперсомнију, полифагију, сексуалну ексцитацију, промене расположења, осцилације телесне тежине, амнестичке епизоде и друге когнитивне поремећај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иквиков синдром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љава се хиперсомнијом, гојазношћу, периодичним дисањ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пнеја у спавању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разумева прекиде дисања у току ноћног спа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ouvenir Lt BT"/>
              </a:rPr>
              <a:t>ПАРАСОМНИЈЕ</a:t>
            </a:r>
            <a:r>
              <a:rPr b="1" lang="sr-Latn-CS" sz="1800" spc="-1" strike="noStrike">
                <a:solidFill>
                  <a:srgbClr val="000000"/>
                </a:solidFill>
                <a:latin typeface="Souvenir Lt BT"/>
              </a:rPr>
              <a:t> 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</a:t>
            </a:r>
            <a:r>
              <a:rPr b="1" lang="sr-Latn-CS" sz="1300" spc="-1" strike="noStrike">
                <a:solidFill>
                  <a:srgbClr val="ff3300"/>
                </a:solidFill>
                <a:latin typeface="Souvenir Lt BT"/>
              </a:rPr>
              <a:t>   </a:t>
            </a:r>
            <a:r>
              <a:rPr b="1" lang="sr-Latn-CS" sz="1300" spc="-1" strike="noStrike">
                <a:solidFill>
                  <a:srgbClr val="9ce157"/>
                </a:solidFill>
                <a:latin typeface="Souvenir Lt BT"/>
              </a:rPr>
              <a:t>                                                    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r>
              <a:rPr b="1" lang="sr-Latn-CS" sz="1300" spc="-1" strike="noStrike">
                <a:solidFill>
                  <a:srgbClr val="000000"/>
                </a:solidFill>
                <a:latin typeface="Souvenir Lt BT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-131760" y="906480"/>
            <a:ext cx="9347040" cy="53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Месечарство – шетање у сну је сложени психомоторни аутоматизам у току спавањ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Говор у спавању – карактеристика и здравих особ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нуресис ноктурна – ноћно мокрење код незрелости нервног систе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Ноћне море и ноћни страх – представљају атаке анксиозности који прате снов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Бруxисмус – шкргутање зубима у сну и последица је моторне дезинхибициј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Љуљање главе или тела – дезинхибициони моторни аутоматиз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ремећај понашања у РЕМ-у – ради се о појави неконтролисаног, виолентног понашања током РЕМ спавања обично код старијих особ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1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5400" y="2274840"/>
            <a:ext cx="81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аница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ужем смислу је поремећај спавања који карактерише незадовољавајући квантитет и/или квалитет спавања (“нерестауративно спавање”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38240" y="2098800"/>
            <a:ext cx="8812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Дијагноза несанице у свакодневном клиничко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раду захтева присуство једног или више критеријума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и то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- тешкоће уснивањ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-   тешкоће одржавања с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-  прерано јутарње буђењ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-   осећај умора после преспаване ноћ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88840" y="-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ouvenir Lt BT"/>
              </a:rPr>
              <a:t>ПОРЕМЕЋАЈИ СПАВАЊ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79520" y="2104920"/>
            <a:ext cx="84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ма трајању лошег сна несанице се могу поделити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кутне несанице - трају неколико дана или недеља                                                  - транзиторне (краће)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раткотрајне (дуже)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хроничне несанице - трају више недеља или месе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9:39:13Z</dcterms:created>
  <dc:creator>TemplatePoint.com</dc:creator>
  <dc:description/>
  <dc:language>en-US</dc:language>
  <cp:lastModifiedBy>Nemanja Muric</cp:lastModifiedBy>
  <dcterms:modified xsi:type="dcterms:W3CDTF">2022-02-15T18:02:48Z</dcterms:modified>
  <cp:revision>300</cp:revision>
  <dc:subject/>
  <dc:title>TemplatePointSamp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01</vt:lpwstr>
  </property>
  <property fmtid="{D5CDD505-2E9C-101B-9397-08002B2CF9AE}" pid="3" name="LastUsedName">
    <vt:lpwstr>01</vt:lpwstr>
  </property>
</Properties>
</file>